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041-4EF1-4B2C-A1D7-AB5E4656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DB6-0945-4872-A038-11FB0FC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E79-D2C9-45C8-AB6C-5B4D46B1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6D9-0D29-4474-854A-96036F89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180-24F2-4E3D-8047-A1F46738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081-BF57-4B20-8076-AFA1ACC8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9ED-7F43-4866-809B-B486061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23C-FD2F-45C2-9E73-5F5D09A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238-E9CD-47A6-9C47-6516127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35C-90A0-4062-80A1-DCD8DE35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165-AC8C-4FCB-B2F6-9B3DBAB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913-4BFB-4386-95B7-8DECE48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ACF-700E-4EC3-A976-DFF2679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40A8-922B-4D95-A8BF-DC365B20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282C-60B9-4FE7-8234-5ADBBC3C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F27-64E4-4450-A6A8-0E4C536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DE3D-311A-4294-8681-14CA3B8E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9E66-2596-472D-B990-31B0528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D868-ACD7-4B79-9424-309C793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6D17-55E1-44AF-9F68-3E0527A0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111E-B494-43CF-9501-D9976CC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4E94-BB9C-4F4D-8148-66DEE98A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0C5-4C97-4594-9040-B87C817E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6EE0-D8AE-4B17-82E0-E44ECC7C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A3AE-3970-4D03-9D15-8102CDD1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75E2-B262-4127-B1D9-5967A75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7C75-2241-49DE-AB37-DE0AB6F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11FA-3F05-4FA2-AE51-0B59A555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C7B1-CF22-48C9-9861-20670769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4C38-2F6B-4BA2-A10D-A06A98C0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BF98F-882A-447D-A4A9-69DFF07E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DA1FD-23F6-462A-8318-FC07050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80D71-2580-42E3-893B-A8FFE511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995-ABCB-4C3A-95C0-EFEA0C3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B807A-FFE5-494B-8C86-AE3EC7C5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CCDDB-AE8A-4973-9004-E31084B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9D6FF-54F3-4055-A491-8A5B853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48304-596B-4239-8B9B-9420026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B8C7E-F4CC-4034-A5E8-26417C1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E8DF4-2C9A-4764-9BA8-20FA9D9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00FBF-1910-412B-9801-B24727C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4F08B-E9DC-4BF2-B478-BD84F5B1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20927-DA6A-41B6-9CCD-A94F95AE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B63C7-4EB8-4F5F-94FE-FCD600D7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CFA-53F1-49C5-AE80-C074AC5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66C0F-5388-4A33-AA76-4A31C77F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33F0F-CAD1-4EB1-BB85-BA59EC2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1F15B-F18F-4065-9A54-9D343690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E72FB-8FB1-4EC2-83AE-B3E3626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95892-6F6D-4030-90E3-97ECE74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5E798-F7F7-4639-865D-AB09E00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CDF43-D72E-4A81-95C0-075BB89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7E7A7-6ACC-4331-B11E-3367D6C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FBD54-F942-4488-B68D-C3E6F1A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760A1-AEDA-4DA6-91B0-2AC85FC0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524-13D1-4B57-8D0C-2FA263F8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67045-0FC5-4579-A8A2-B41FCBA4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F1BC-880F-4FA2-930C-3825186A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EAF2-B39C-43DB-BFA4-966AF80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FA0A4-3E8F-4454-8B07-11507E3A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3BF5-4C0C-44DD-AAEF-E67EF9B0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E9F5-239D-421E-9073-63F4F92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4FB1-C4E6-47BE-98F6-CCE65D1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18DE1-1154-4E1C-B59A-52B32EA3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BF95-ED0A-4B01-8658-9C8A9A8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D1A15-36D9-40E3-ADE9-FA3D72A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A22-E034-4B02-9B15-5A06CA7C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961D-A888-4044-8D56-2F957AE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CA44-729B-47F1-AC78-F463FAD3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2924-2E66-4CE8-9D91-83231F19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7027-627F-48F7-9996-687EA3F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D29B-EAB4-48D4-8809-B450286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2F69-E3E1-4052-9061-329039B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D54F-C8E0-4402-897E-0D867C4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37D6-EB74-47DF-9EB8-52728EC0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2C2D-C094-46A3-809E-BB1C2553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C4A34-4015-4AF6-8534-DACBB24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E4A-DCE4-4367-A593-1ED61C4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AF03-50F5-4B98-8AFC-BCFC2E46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65B8-ED66-4505-B232-1A7AD20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B17E-4B4B-4384-9AE8-03A6C8A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AE20-47EA-4F02-8BBD-376EF710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0CCA-2291-4CF4-B0C3-E98A85F0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F22F71-ACF6-4300-98FF-D3673735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65E56-89E4-4B0F-A5E5-58ABC9F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33518-301B-40AA-8382-717A4A5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96D51-08EB-4698-889D-E4459B8B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6480A-504C-4824-9E59-96136DF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EBF-3C85-484D-B2CA-0746ACB3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7F543-3ADB-4715-8558-4145C96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DF26BC-8296-47E6-97CF-BD06FDF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71ED6-45B2-40AF-8438-A53BFFB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CF9D5-2453-404E-9A1C-E251FE0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31CCD-9A05-4BC1-9E82-189AA73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BC40D-DFEA-4FD0-8B37-23BDC8B2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F86E6-4835-44FE-A308-C6E568A1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3D5-F881-46F1-83A3-9C370478DB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165-09C3-4494-8321-6923824048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A6EB-F58B-4768-8388-17169541ED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310-657F-42D1-AF92-C14488643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311-36C4-469E-891F-41C628844D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A2E-5400-4CBC-B5B1-51D8850D2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ECE-2647-45D2-993E-0CF3DBC4E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854-E5AE-4809-B55B-CABBE362E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mosphere is the gas that surounds a pla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ximum amount that can be held or taken 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bin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wo or more substances put toge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ructive F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21 Elementary school</cp:lastModifiedBy>
  <dcterms:modified xsi:type="dcterms:W3CDTF">2009-04-16T17:24:14Z</dcterms:modified>
  <cp:revision>15</cp:revision>
  <dc:subject/>
  <dc:title>Science Terms</dc:title>
</cp:coreProperties>
</file>